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Click to move the slide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393C-09B8-4640-825A-2F9D420C9A60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D87F-3AF0-44A9-8555-4D2FD0F48CE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lide 0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8CD8-3680-4D23-B140-315996AC093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lide 0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428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8164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692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428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8164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FA4-E765-4F23-8236-53E36401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295C-82D6-4DE3-8710-8783DB51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2E7-ADF8-44F6-AFEF-E2499A71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F75-0B81-4E1A-B575-5BB2D97C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B62-5D8B-4D54-AC9D-5E19C822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3640" y="27468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3D71-B363-4931-BADF-8C35C71F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E57-D64B-4A39-AE57-3A3D3CA2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CD2-DBB2-420B-AF9F-10DF5365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066-49A2-4028-95A1-B1E6CDDD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1AC-86B8-4415-9AF9-494C7EF6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D45-D996-43BB-931E-BC8E4F78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5428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8164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2692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5428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8164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441-B7FD-4BCF-A2FF-73C9C2F3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23640" y="27468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5428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8164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82692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5428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8164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23640" y="27468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5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3"/>
          <p:cNvSpPr/>
          <p:nvPr/>
        </p:nvSpPr>
        <p:spPr>
          <a:xfrm>
            <a:off x="270000" y="260280"/>
            <a:ext cx="8694720" cy="1008000"/>
          </a:xfrm>
          <a:prstGeom prst="rect">
            <a:avLst/>
          </a:prstGeom>
          <a:solidFill>
            <a:srgbClr val="72a1d0"/>
          </a:solidFill>
          <a:ln w="19080">
            <a:solidFill>
              <a:srgbClr val="f3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755640" y="1390680"/>
            <a:ext cx="82090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GTKTBB"/>
          <p:cNvPicPr/>
          <p:nvPr/>
        </p:nvPicPr>
        <p:blipFill>
          <a:blip r:embed="rId2"/>
          <a:stretch/>
        </p:blipFill>
        <p:spPr>
          <a:xfrm>
            <a:off x="92160" y="5516640"/>
            <a:ext cx="1368360" cy="1271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e7"/>
            </a:outerShdw>
          </a:effectLst>
        </p:spPr>
      </p:pic>
      <p:sp>
        <p:nvSpPr>
          <p:cNvPr id="5" name="Text Box 27"/>
          <p:cNvSpPr/>
          <p:nvPr/>
        </p:nvSpPr>
        <p:spPr>
          <a:xfrm>
            <a:off x="1547640" y="6453360"/>
            <a:ext cx="367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strella"/>
              </a:rPr>
              <a:t>The Story of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9800" indent="-37980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1" marL="906840" indent="-37584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2" marL="12492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3" marL="159192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4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5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6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C47B-416C-45D9-BFBE-62B978120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6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5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3"/>
          <p:cNvSpPr/>
          <p:nvPr/>
        </p:nvSpPr>
        <p:spPr>
          <a:xfrm>
            <a:off x="270000" y="260280"/>
            <a:ext cx="8694720" cy="1008000"/>
          </a:xfrm>
          <a:prstGeom prst="rect">
            <a:avLst/>
          </a:prstGeom>
          <a:solidFill>
            <a:srgbClr val="72a1d0"/>
          </a:solidFill>
          <a:ln w="19080">
            <a:solidFill>
              <a:srgbClr val="f3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4"/>
          <p:cNvSpPr/>
          <p:nvPr/>
        </p:nvSpPr>
        <p:spPr>
          <a:xfrm>
            <a:off x="755640" y="1390680"/>
            <a:ext cx="82090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GTKTBB"/>
          <p:cNvPicPr/>
          <p:nvPr/>
        </p:nvPicPr>
        <p:blipFill>
          <a:blip r:embed="rId2"/>
          <a:stretch/>
        </p:blipFill>
        <p:spPr>
          <a:xfrm>
            <a:off x="92160" y="5516640"/>
            <a:ext cx="1368360" cy="1271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e7"/>
            </a:outerShdw>
          </a:effectLst>
        </p:spPr>
      </p:pic>
      <p:sp>
        <p:nvSpPr>
          <p:cNvPr id="54" name="Text Box 27"/>
          <p:cNvSpPr/>
          <p:nvPr/>
        </p:nvSpPr>
        <p:spPr>
          <a:xfrm>
            <a:off x="1547640" y="6453360"/>
            <a:ext cx="367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strella"/>
              </a:rPr>
              <a:t>The Story of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176364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GTKTBB"/>
          <p:cNvPicPr/>
          <p:nvPr/>
        </p:nvPicPr>
        <p:blipFill>
          <a:blip r:embed="rId2"/>
          <a:stretch/>
        </p:blipFill>
        <p:spPr>
          <a:xfrm>
            <a:off x="250920" y="3500280"/>
            <a:ext cx="3097080" cy="2878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</p:pic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9800" indent="-37980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1" marL="906840" indent="-37584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2" marL="12492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3" marL="159192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4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5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6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906560" y="260280"/>
            <a:ext cx="676908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66"/>
                </a:solidFill>
                <a:latin typeface="SenateCondensed"/>
              </a:rPr>
              <a:t>The Story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66"/>
                </a:solidFill>
                <a:latin typeface="SenateCondensed"/>
              </a:rPr>
              <a:t>of the Bib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824360" y="5877000"/>
            <a:ext cx="4319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Minstrella"/>
              </a:rPr>
              <a:t>Sponsored by the Christadelp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Holy%20Bible"/>
          <p:cNvPicPr/>
          <p:nvPr/>
        </p:nvPicPr>
        <p:blipFill>
          <a:blip r:embed="rId1"/>
          <a:stretch/>
        </p:blipFill>
        <p:spPr>
          <a:xfrm>
            <a:off x="4932360" y="3068640"/>
            <a:ext cx="3994200" cy="267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Biblical Creation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8645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1480" indent="-411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The Bible says . . .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lvl="1" marL="982440" indent="-407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God created the universe and all living things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82440" indent="-407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The creation took six days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82440" indent="-407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On the seventh day, God “rested”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82440" indent="-407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God created for his own pleasure and glory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411480" indent="-411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The Bible does not say . . .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lvl="1" marL="982440" indent="-407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When God created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82440" indent="-407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How God created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6756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Some passages supporting Creation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4452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Genesis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:1,7,16,21,25,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27,31; 2:1-4,9,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22; 3:1; 5:1-2;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6:7; 7:4; 9:6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Exodus 20:11; 31:17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Deuteronomy 4:32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2 Kings 19:15 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 Chronicles 16:26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2 Chronicles 2:12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Nehemiah 9:6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ob 9:8; 26:13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47640" y="1413000"/>
            <a:ext cx="309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SenateCondense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Psalms 8:3; 33:6; 96:5;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02:25; 104:2,30;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36:5; 148:5 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Proverbs 3:19; 8:27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Ecclesiastes 3:11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Isaiah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40:26; 41:20; 42:5; 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43:1,7; 45:8,12,18;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48:13; 65:17 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eremiah 10:12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onah 1:9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Malachi 2:10 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227640" y="1413000"/>
            <a:ext cx="251460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Matthew 19: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Mark 13: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ohn 1:3,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Acts 4:2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Romans 1:2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 Corinthians 11: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Ephesians 3: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Colossians 1: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Timothy 4: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Hebrews 1:2,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2 Peter 3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Revelation 4:11; 10: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560" y="1483920"/>
            <a:ext cx="8093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1988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enateCondensed"/>
              </a:rPr>
              <a:t>“</a:t>
            </a:r>
            <a:r>
              <a:rPr b="0" lang="en-US" sz="3900" spc="-1" strike="noStrike">
                <a:solidFill>
                  <a:srgbClr val="000000"/>
                </a:solidFill>
                <a:latin typeface="SenateCondensed"/>
              </a:rPr>
              <a:t>The laws [of physics] . . . seem themselves to be the product of exceedingly ingenious design . . .</a:t>
            </a:r>
            <a:endParaRPr b="0" lang="en-US" sz="3900" spc="-1" strike="noStrike">
              <a:solidFill>
                <a:srgbClr val="000000"/>
              </a:solidFill>
              <a:latin typeface="SenateCondensed"/>
            </a:endParaRPr>
          </a:p>
          <a:p>
            <a:pPr marL="11988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enateCondensed"/>
              </a:rPr>
              <a:t>  </a:t>
            </a:r>
            <a:r>
              <a:rPr b="0" lang="en-US" sz="3900" spc="-1" strike="noStrike">
                <a:solidFill>
                  <a:srgbClr val="000000"/>
                </a:solidFill>
                <a:latin typeface="SenateCondensed"/>
              </a:rPr>
              <a:t>[There] is for me powerful evidence that there is something going on behind it all . . . It seems as though somebody has fine-tuned nature's numbers to make the Universe. . . . The impression of design is overwhelming.”</a:t>
            </a:r>
            <a:endParaRPr b="0" lang="en-US" sz="3900" spc="-1" strike="noStrike">
              <a:solidFill>
                <a:srgbClr val="000000"/>
              </a:solidFill>
              <a:latin typeface="SenateCondensed"/>
            </a:endParaRPr>
          </a:p>
          <a:p>
            <a:pPr marL="119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119880" indent="0" algn="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Professor Paul Davies 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119880" indent="0" algn="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(Professor of Physics University of Adelaide)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55640" y="1483920"/>
            <a:ext cx="816912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867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enateCondensed"/>
              </a:rPr>
              <a:t>“</a:t>
            </a:r>
            <a:r>
              <a:rPr b="0" lang="en-US" sz="3900" spc="-1" strike="noStrike">
                <a:solidFill>
                  <a:srgbClr val="000000"/>
                </a:solidFill>
                <a:latin typeface="SenateCondensed"/>
              </a:rPr>
              <a:t>I think we must admit that the only acceptable explanation is creation. I know that this is anathema to physicists, as indeed it is to me, but we must not reject a theory that we do not like if the experimental evidence supports it.”</a:t>
            </a:r>
            <a:endParaRPr b="0" lang="en-US" sz="3900" spc="-1" strike="noStrike">
              <a:solidFill>
                <a:srgbClr val="000000"/>
              </a:solidFill>
              <a:latin typeface="SenateCondensed"/>
            </a:endParaRPr>
          </a:p>
          <a:p>
            <a:pPr marL="867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Professor H.S. Lipson, FRS,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867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Professor of Physics,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867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University of Manchester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86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5596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8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Our faith in the doctrine of evolution depends upon our reluctance to accept the antagonist doctrine of special creation.”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89280" indent="0" algn="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L.T.More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89280" indent="0" algn="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University of Cincinatti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89280" indent="0" algn="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The Dogma of Evolution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26920" y="1483920"/>
            <a:ext cx="78645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9612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Evolution is unproved and improvable, but we believe it because the only alternative is special creation, and that is unthinkable.”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96120" indent="0" algn="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96120" indent="0" algn="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Sir Arthur Keith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9612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9612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122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3480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   “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Evolutionists may disagree on many things, but their commitment to atheism ensures their solid agreement on the non-existence of an intelligent creator.”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480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4800" indent="0" algn="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The New Scientist, 5 3 1987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What Jesus Believed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993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God made Adam and Eve 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Matthew 19:4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294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God created the earth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Mark 13:19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294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Adam was a literal man, not a myth 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Luke 3:38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294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Noah and the flood 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Matthew 24:37-39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294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First murder (Cain murdered Abel) 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Matthew 23:35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294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Lot and his wife 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Luke 17:28-29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294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Destruction of Sodom and Gomorrah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Luke 17:32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294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Marriage a God given institution 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Matthew 19:5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Plausible creation models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Recent re-creation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Days of revelation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Days of divine command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Seventh Day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7993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79800" indent="-379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God completed his work of creating in six days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-379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On the seventh day he rested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-379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e Hebrew word translated “rested” is </a:t>
            </a:r>
            <a:r>
              <a:rPr b="0" i="1" lang="en-US" sz="3200" spc="-1" strike="noStrike">
                <a:solidFill>
                  <a:srgbClr val="000000"/>
                </a:solidFill>
                <a:latin typeface="SenateCondensed"/>
              </a:rPr>
              <a:t>shabath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, from which the word “Sabbath” comes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-379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God set apart the seventh day and blessed it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-379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e command to keep the Sabbath came 2500 years later as part of the law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-379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e New Testament does not command Sabbath keeping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Aims of the Course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Help you fit Bible events into the overall story of the Bible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76212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 Continue to become more familiar with the Bible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76212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 Learn the meaning 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76212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of some Bible words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143" name="Picture 6" descr="Holy%20Bible"/>
          <p:cNvPicPr/>
          <p:nvPr/>
        </p:nvPicPr>
        <p:blipFill>
          <a:blip r:embed="rId1"/>
          <a:stretch/>
        </p:blipFill>
        <p:spPr>
          <a:xfrm>
            <a:off x="5867280" y="4640400"/>
            <a:ext cx="3186360" cy="21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SenateCondensed"/>
              </a:rPr>
              <a:t>Genesis</a:t>
            </a:r>
            <a:r>
              <a:rPr b="0" lang="en-US" sz="5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5600" spc="-1" strike="noStrike">
                <a:solidFill>
                  <a:srgbClr val="ffffff"/>
                </a:solidFill>
                <a:latin typeface="SenateCondensed"/>
              </a:rPr>
              <a:t>2-3: The Garden of Eden</a:t>
            </a:r>
            <a:endParaRPr b="0" lang="en-US" sz="56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80010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3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Can you identify the location of Eden from the details given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43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What does “The knowledge of good and evil” mean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43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What steps led to the first sin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43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Why do you think God gave the rule to Adam? 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43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Was there only one rule given to Adam and Eve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43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Did God forgive Adam and Eve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43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God said that Adam and Eve would die when they ate the fruit (2:17). Yet they didn’t die until many years later. How can you explain this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hite marble"/>
          <p:cNvPicPr/>
          <p:nvPr/>
        </p:nvPicPr>
        <p:blipFill>
          <a:blip r:embed="rId1"/>
          <a:stretch/>
        </p:blipFill>
        <p:spPr>
          <a:xfrm>
            <a:off x="-762120" y="380880"/>
            <a:ext cx="10134720" cy="60962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209320"/>
            <a:ext cx="29718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SenateCondensed"/>
              </a:rPr>
              <a:t>Mediterranean</a:t>
            </a:r>
            <a:r>
              <a:rPr b="1" lang="en-US" sz="36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enateCondensed"/>
              </a:rPr>
              <a:t>Sea</a:t>
            </a:r>
            <a:endParaRPr b="0" lang="en-US" sz="32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18960" y="59436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SenateCondensed"/>
              </a:rPr>
              <a:t>Red Sea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267080" y="1981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Euph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5867280" y="166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Tig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23888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is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60199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6553080" y="3200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vil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657600" y="4267080"/>
            <a:ext cx="2819520" cy="12956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581280" y="4191120"/>
            <a:ext cx="2819520" cy="1295280"/>
          </a:xfrm>
          <a:prstGeom prst="rect">
            <a:avLst/>
          </a:prstGeom>
          <a:solidFill>
            <a:srgbClr val="9889b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3505320" y="4191120"/>
            <a:ext cx="2971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Cradle    of Civilis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69520" y="380880"/>
            <a:ext cx="85741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creation of Adam and Eve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8245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798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Adam made from earth. Because of his later sin, he returned to earth. (Gen 3:19)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God breathed into Adam the “breath of life” (Gen 2:7). It is this breath of life which keeps us all alive, including animals and birds. (Job 33:4; Gen 7:15,22; Psalm 104:29)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Eve made from Adam. Presented by God to Adam as  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a companion and wife. (Gen 2:23).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Garden of Eden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9408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1480" indent="-411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God placed Adam and Eve in the Garden of Eden to take care of it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411480" indent="-411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ey may eat from any tree in the garden except the “tree of the knowledge of good and evil” in the middle of the garden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411480" indent="-411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A snake tempts Eve to eat of the forbidden fruit and she does. Adam also eats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411480" indent="-411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God confronts them with their sin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411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Judgement and Punishment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312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3160" indent="-443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The snake was cursed (Gen 3:14-15):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lvl="1" marL="1058040" indent="-438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crawl on belly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lvl="1" marL="1058040" indent="-438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enmity between people and snakes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43160" indent="-443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The woman was cursed (Gen 3:16):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lvl="1" marL="1058040" indent="-438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increased pain in child-bearing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lvl="1" marL="1058040" indent="-438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desire for husband and subject to husb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(see 1 Tim 2:12-14)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43160" indent="-443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The man was cursed (Gen 3:17-19):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lvl="1" marL="1058040" indent="-438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Have to work hard to eat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lvl="1" marL="1058040" indent="-438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Return to dust (applied to Eve also)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covering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882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2480" indent="-40248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ig leaves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provided by Adam and Eve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did not cover sin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402480" indent="-40248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kins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provided by God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sacrifice covered sin (Hebrews 9:22)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4024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Introduction of sin and death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8169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8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SenateCondensed"/>
              </a:rPr>
              <a:t>Romans 5:14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438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enateCondensed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nateCondensed"/>
              </a:rPr>
              <a:t>Sin entered into the world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104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- From then on, sin reigned like a king over mankind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nateCondensed"/>
              </a:rPr>
              <a:t>And death through sin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104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- Death was a penalty imposed by God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nateCondensed"/>
              </a:rPr>
              <a:t>And so death passed upon all men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104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- Adam's descendants inherited his mortality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nateCondensed"/>
              </a:rPr>
              <a:t>For all have sinned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104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- We are also mortal because of our sin.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promise of hope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02920" y="3141360"/>
            <a:ext cx="7056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The offspring of the snake: sin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The offspring of the woman: Jesus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Jesus delivered a fatal blow to sin when he died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But he had his own “heel” bruised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6920" y="1484280"/>
            <a:ext cx="815364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nateCondensed"/>
              </a:rPr>
              <a:t>Genesis 3: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nateCondensed"/>
              </a:rPr>
              <a:t>The enmity between people and snakes symbolizes the struggle between Jesus and 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end of the curse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9408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39120" indent="-33912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enateCondensed"/>
              </a:rPr>
              <a:t>Romans 8:21-22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9120" indent="-33912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enateCondensed"/>
              </a:rPr>
              <a:t>Isaiah 11:8-9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9120" indent="-33912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enateCondensed"/>
              </a:rPr>
              <a:t>Isaiah 65:20-25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9120"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9120"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enateCondensed"/>
              </a:rPr>
              <a:t>No more a curse, but a blessing on God's people and their offspring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9120"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Some Bible Words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619280" y="1700280"/>
            <a:ext cx="35733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1800" indent="-361800">
              <a:lnSpc>
                <a:spcPct val="115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God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61800" indent="-361800">
              <a:lnSpc>
                <a:spcPct val="115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Lord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61800" indent="-361800">
              <a:lnSpc>
                <a:spcPct val="115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LORD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61800" indent="-361800">
              <a:lnSpc>
                <a:spcPct val="115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covet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61800" indent="-361800">
              <a:lnSpc>
                <a:spcPct val="115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sin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32360" y="1773360"/>
            <a:ext cx="320832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0840" indent="-420840">
              <a:lnSpc>
                <a:spcPct val="115000"/>
              </a:lnSpc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temptation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420840" indent="-420840">
              <a:lnSpc>
                <a:spcPct val="115000"/>
              </a:lnSpc>
              <a:spcBef>
                <a:spcPts val="11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angel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420840" indent="-420840">
              <a:lnSpc>
                <a:spcPct val="115000"/>
              </a:lnSpc>
              <a:spcBef>
                <a:spcPts val="11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seraphim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420840" indent="-420840">
              <a:lnSpc>
                <a:spcPct val="115000"/>
              </a:lnSpc>
              <a:spcBef>
                <a:spcPts val="11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cherubim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765000" y="4979880"/>
            <a:ext cx="1511640" cy="144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Course Outline </a:t>
            </a:r>
            <a:r>
              <a:rPr b="0" lang="en-US" sz="2400" spc="-1" strike="noStrike">
                <a:solidFill>
                  <a:srgbClr val="ffffff"/>
                </a:solidFill>
                <a:latin typeface="SenateCondensed"/>
              </a:rPr>
              <a:t>(God willing)</a:t>
            </a:r>
            <a:endParaRPr b="0" lang="en-US" sz="2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71640" y="1461960"/>
            <a:ext cx="7921440" cy="491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rmAutofit fontScale="94000"/>
          </a:bodyPr>
          <a:p>
            <a:pPr marL="5072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6367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enateCondensed"/>
              </a:rPr>
              <a:t>An 8-week course looking at the major people and events in the Bible and how they fit together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lvl="1" marL="787680" indent="-357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SenateCondensed"/>
              <a:buAutoNum type="arabicPeriod"/>
              <a:tabLst>
                <a:tab algn="l" pos="6367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God, creation and the first sin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787680" indent="-357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SenateCondensed"/>
              <a:buAutoNum type="arabicPeriod"/>
              <a:tabLst>
                <a:tab algn="l" pos="6367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Abraham: the man who was promised the world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787680" indent="-357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SenateCondensed"/>
              <a:buAutoNum type="arabicPeriod"/>
              <a:tabLst>
                <a:tab algn="l" pos="6367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Moses and the law given to Israel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787680" indent="-357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SenateCondensed"/>
              <a:buAutoNum type="arabicPeriod"/>
              <a:tabLst>
                <a:tab algn="l" pos="6367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The judges and kings of Israel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787680" indent="-357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SenateCondensed"/>
              <a:buAutoNum type="arabicPeriod"/>
              <a:tabLst>
                <a:tab algn="l" pos="6367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Captivity in Babylon and return to Jerusalem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787680" indent="-357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SenateCondensed"/>
              <a:buAutoNum type="arabicPeriod"/>
              <a:tabLst>
                <a:tab algn="l" pos="6367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Jesus Christ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787680" indent="-357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SenateCondensed"/>
              <a:buAutoNum type="arabicPeriod"/>
              <a:tabLst>
                <a:tab algn="l" pos="6367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The early church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787680" indent="-357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SenateCondensed"/>
              <a:buAutoNum type="arabicPeriod"/>
              <a:tabLst>
                <a:tab algn="l" pos="6367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The Kingdom of God (?)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147" name="Picture 6" descr="Holy%20Bible"/>
          <p:cNvPicPr/>
          <p:nvPr/>
        </p:nvPicPr>
        <p:blipFill>
          <a:blip r:embed="rId1"/>
          <a:stretch/>
        </p:blipFill>
        <p:spPr>
          <a:xfrm>
            <a:off x="5867280" y="4640400"/>
            <a:ext cx="3186360" cy="21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Next Week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lnSpc>
                <a:spcPct val="115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1" lang="en-US" sz="6600" spc="-1" strike="noStrike">
                <a:solidFill>
                  <a:srgbClr val="000000"/>
                </a:solidFill>
                <a:latin typeface="SenateCondensed"/>
              </a:rPr>
              <a:t>Abraham: the man who was promised the world</a:t>
            </a:r>
            <a:endParaRPr b="0" lang="en-US" sz="66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222" name="Picture 6" descr="Holy%20Bible"/>
          <p:cNvPicPr/>
          <p:nvPr/>
        </p:nvPicPr>
        <p:blipFill>
          <a:blip r:embed="rId1"/>
          <a:stretch/>
        </p:blipFill>
        <p:spPr>
          <a:xfrm>
            <a:off x="5867280" y="4640400"/>
            <a:ext cx="3186360" cy="21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nateCondensed"/>
              </a:rPr>
              <a:t>People we will consider in this course</a:t>
            </a:r>
            <a:endParaRPr b="0" lang="en-US" sz="48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enateCondensed"/>
              </a:rPr>
              <a:t>Jesus Christ</a:t>
            </a:r>
            <a:endParaRPr b="0" lang="en-US" sz="34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enateCondensed"/>
              </a:rPr>
              <a:t>Adam and Eve</a:t>
            </a:r>
            <a:endParaRPr b="0" lang="en-US" sz="34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enateCondensed"/>
              </a:rPr>
              <a:t>Abraham</a:t>
            </a:r>
            <a:endParaRPr b="0" lang="en-US" sz="34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enateCondensed"/>
              </a:rPr>
              <a:t>Moses</a:t>
            </a:r>
            <a:endParaRPr b="0" lang="en-US" sz="34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enateCondensed"/>
              </a:rPr>
              <a:t>David, king of Israel</a:t>
            </a:r>
            <a:endParaRPr b="0" lang="en-US" sz="34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enateCondensed"/>
              </a:rPr>
              <a:t>Paul the Apostle</a:t>
            </a:r>
            <a:endParaRPr b="0" lang="en-US" sz="34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150" name="Picture 6" descr="Holy%20Bible"/>
          <p:cNvPicPr/>
          <p:nvPr/>
        </p:nvPicPr>
        <p:blipFill>
          <a:blip r:embed="rId7"/>
          <a:stretch/>
        </p:blipFill>
        <p:spPr>
          <a:xfrm>
            <a:off x="5867280" y="4640400"/>
            <a:ext cx="3186360" cy="21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336960" y="141120"/>
            <a:ext cx="950400" cy="170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Juice ITC"/>
              </a:rPr>
              <a:t>1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79280" y="189000"/>
            <a:ext cx="1440000" cy="1800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50920" y="260280"/>
            <a:ext cx="1296720" cy="1656000"/>
          </a:xfrm>
          <a:prstGeom prst="rect">
            <a:avLst/>
          </a:prstGeom>
          <a:solidFill>
            <a:srgbClr val="72a1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24000" y="333360"/>
            <a:ext cx="115236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468360" y="76320"/>
            <a:ext cx="86364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SenateCondensed"/>
              </a:rPr>
              <a:t>1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835280" y="404640"/>
            <a:ext cx="69134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SenateCondensed"/>
              </a:rPr>
              <a:t>God, creation and the first s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835280" y="6400800"/>
            <a:ext cx="496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Minstrella"/>
              </a:rPr>
              <a:t>The Story of the 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Holy%20Bible"/>
          <p:cNvPicPr/>
          <p:nvPr/>
        </p:nvPicPr>
        <p:blipFill>
          <a:blip r:embed="rId1"/>
          <a:stretch/>
        </p:blipFill>
        <p:spPr>
          <a:xfrm>
            <a:off x="5867280" y="4640400"/>
            <a:ext cx="3186360" cy="21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world"/>
          <p:cNvPicPr/>
          <p:nvPr/>
        </p:nvPicPr>
        <p:blipFill>
          <a:blip r:embed="rId1"/>
          <a:stretch/>
        </p:blipFill>
        <p:spPr>
          <a:xfrm>
            <a:off x="1895400" y="0"/>
            <a:ext cx="72486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God’s purpo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7640" y="1599840"/>
            <a:ext cx="4608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 the earth will be filled with the knowledge of the glory of the Lord as the waters cover the se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(Habakkuk 2: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458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Characteristics of God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2376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enateCondensed"/>
              </a:rPr>
              <a:t>CHARACTERISTIC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Creator &amp; sustainer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Father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Holy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Loving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Sinless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Lawgiver &amp; Judge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Supreme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48000" y="1413000"/>
            <a:ext cx="30132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enateCondensed"/>
              </a:rPr>
              <a:t>OLD TESTAMENT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Genesi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; Psalm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;5-31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Deuteronomy 32:6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Exodus 15:11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Exodus 34:6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Deuteronomy 32:4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Isaiah 33:22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Isaiah 43:10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Deuteronomy 33:27;       Isaiah 40:28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483240" y="1413000"/>
            <a:ext cx="266076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enateCondensed"/>
              </a:rPr>
              <a:t>NEW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Acts 17:24-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 Corinthians 8: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 Peter 1: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ohn 3: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ames 1: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ames 4:12; Hebrews12: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 Timothy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 Timothy 6: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8458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Characteristics of God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2521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enateCondensed"/>
              </a:rPr>
              <a:t>CHARACTERISTIC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Angered by sin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Forgiving/justifying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ealous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All knowing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Present everywhere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Hears prayer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Gives &amp; keeps promises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All powerful 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76360" y="1412640"/>
            <a:ext cx="2950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enateCondensed"/>
              </a:rPr>
              <a:t>OLD TESTAMENT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2 Chronicles 24:18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Exodu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: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Isaiah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3:25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Exodus 20:5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Isaiah 44:6-8; 46:10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Psalm 139:7-12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Psalm 65:2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oshua 21:45; 23:15-16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Isaiah 45:24-28;  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eremi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7: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7,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443640" y="1413000"/>
            <a:ext cx="23763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enateCondensed"/>
              </a:rPr>
              <a:t>NEW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Romans 1: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Romans 8: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 Corinthians 10:21-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 John 3: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Acts 17:24-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Matthew 6: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Acts 13:32-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Luke 1: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421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Genesis</a:t>
            </a:r>
            <a:r>
              <a:rPr b="0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1. Six days of creation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What was the earth like before the first day of creation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51192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Is it said concerning every day that “God saw that it was good”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What is the earth said to have first brought forth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How could the sun, moon and stars be created on the fourth day, yet there be evenings and mornings from the first day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Is Eve mentioned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What food was assigned to man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Over what part of creation did man have dominion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5:22:34Z</dcterms:created>
  <dc:creator>Paul Bailye</dc:creator>
  <dc:description>paul.bailye@gmail.com</dc:description>
  <dc:language>en-US</dc:language>
  <cp:lastModifiedBy>Rob Hyndman</cp:lastModifiedBy>
  <dcterms:modified xsi:type="dcterms:W3CDTF">2008-05-19T11:24:20Z</dcterms:modified>
  <cp:revision>69</cp:revision>
  <dc:subject/>
  <dc:title>GTKTBB</dc:title>
</cp:coreProperties>
</file>